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12.jpeg" ContentType="image/jpeg"/>
  <Override PartName="/ppt/media/image9.wmf" ContentType="image/x-wmf"/>
  <Override PartName="/ppt/media/image14.png" ContentType="image/png"/>
  <Override PartName="/ppt/media/image11.jpeg" ContentType="image/jpeg"/>
  <Override PartName="/ppt/media/image8.png" ContentType="image/png"/>
  <Override PartName="/ppt/media/image16.wmf" ContentType="image/x-wmf"/>
  <Override PartName="/ppt/media/image7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6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54D3-B901-4399-A54D-354F05ABF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409E-B243-4C83-A76B-F64BD00BC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FB17-6C42-4E4B-B90E-0F455A432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03BE-1FCD-4BAE-868D-89ACC4CD1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450FD-41D0-4C4D-A3F3-CB7A0057B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F44E1-0023-4CCF-B5FA-4A592200B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48E3A-9F1F-4B60-B127-B89E46EE5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E7B1B-B18D-46D5-BB4D-8035F0F48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5579C-75CE-4B19-8BD5-76A7F0514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2B6CA-F88D-4A93-A240-B37BD6A5F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EF55D-D2BF-440C-B1F4-45142986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EDFE-10D9-4ACB-90FC-9015E7BC8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76CE4-A947-4A91-B762-3E903CB27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2EF3D-3A9A-4916-AE5C-C7BFAD0B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2483F-1949-4A39-88FC-E348C43E3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ADC85-0BC0-4BF1-B813-6B5EEA914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EF8EF-B37D-4DA3-9D1E-55E7FDCD0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94C9C-F7D9-4069-AAB0-C8BBA6BC1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01202-2BBA-40C9-A30B-7EED01CFF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75D93-2266-4A5A-A0C4-A87DFAC85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BF55C-0E25-4698-9BD4-C67B98BF5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9F3BB-7AE2-4450-984B-9DB29839C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C64C-B545-44CF-A412-5DF14D066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97F71-6730-4F24-9887-5D43F6DC8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02BEB-D9C6-41DD-9BFE-8E69869BD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E0363-0551-4895-8F70-A3D54E71A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C705A-5BDC-441A-BE4F-8FC06792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BC86D-4229-4D18-967A-19BA7F074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2EF9E-4B05-4374-BD46-7753BCBB2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1CE55-25F1-4E7A-B7DC-D9EF2F094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F4DF6-796D-4141-92C2-8A32BC454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9E440-9590-4666-A517-E34B7682D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19409-6CFC-4430-A165-BA948A820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5FB0-20D5-4B30-95F7-AD4B901FC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9FF05-DD70-4FC0-8DA3-BAA9EE7E8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29AE6-0F2C-4585-A2BF-AA97A3BC6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33396-7496-4004-B256-102F2FA6C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A03D9-C285-4B06-BF68-DBC8DA1E9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E357A-5563-4618-8656-B492AD06B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2B258-E58E-422A-97A1-F652D96A8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118A7-6202-4751-90AB-D74DE355B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C7DC3-EE2E-46F2-9C7A-D2B2C6E82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31E6B-CFF3-44D9-91ED-EF6BFE23F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CD9561-4BCF-4EC3-88B6-926684AEA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FA19-68C3-4323-B6D1-20FA3D5C4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49DD9D-7C26-4BAD-9088-91DA59DE7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FD0BA3-B2A2-4B08-9DCF-A6094AA71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AB263-463E-4DB7-958E-B180391ED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19F60B-80CD-4A9D-99AD-8ADED18D7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D2A799-19C7-40CD-BD1D-54D175984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7E19D-1A08-4BC9-AF88-78BCC76B4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743F4-73F4-49DB-A7EE-463549C4C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3BE355-CBB7-4A8B-A33A-A0EFF455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92741C-7C3F-4B4D-AEFD-6E0C174B6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4453A7-9218-420B-81D8-B31E69E38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1720-839F-4BBC-A975-9147ED06D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87AD64-55C9-4E13-9643-1BD5F45CB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A433-4477-45D8-AABA-B333B18B5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8C64-94CD-4307-9CA5-FBB4F7EF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6BE8-913A-4149-A35F-8677CBADA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CB39D-D9A7-46F9-AE13-5531601C7B6F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FF11F-E405-498F-8737-265C4D454373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20037-D52E-4F72-9E5B-2CB43386011F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C932A-EBC7-4C5C-9F67-BD14B01DF0B6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DED85-2D4A-41CD-9D87-9F8473EB2FE9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8" descr=""/>
          <p:cNvPicPr/>
          <p:nvPr/>
        </p:nvPicPr>
        <p:blipFill>
          <a:blip r:embed="rId1"/>
          <a:stretch/>
        </p:blipFill>
        <p:spPr>
          <a:xfrm>
            <a:off x="2889360" y="463680"/>
            <a:ext cx="5589360" cy="14508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200400" y="2514600"/>
            <a:ext cx="5114880" cy="1447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By: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Megan and Natalia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2" name="Picture 2" descr="C:\Documents and Settings\s128343\Local Settings\Temp\Temporary Internet Files\Content.IE5\PXCBB7V5\MC900174327[1].wmf"/>
          <p:cNvPicPr/>
          <p:nvPr/>
        </p:nvPicPr>
        <p:blipFill>
          <a:blip r:embed="rId2"/>
          <a:stretch/>
        </p:blipFill>
        <p:spPr>
          <a:xfrm>
            <a:off x="3962520" y="3962520"/>
            <a:ext cx="4190760" cy="26794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C:\Documents and Settings\s128343\Local Settings\Temp\Temporary Internet Files\Content.IE5\ZUCTHZ1T\MC900432542[1].png"/>
          <p:cNvPicPr/>
          <p:nvPr/>
        </p:nvPicPr>
        <p:blipFill>
          <a:blip r:embed="rId3"/>
          <a:stretch/>
        </p:blipFill>
        <p:spPr>
          <a:xfrm>
            <a:off x="2743200" y="2133720"/>
            <a:ext cx="1371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Title 1" descr=""/>
          <p:cNvPicPr/>
          <p:nvPr/>
        </p:nvPicPr>
        <p:blipFill>
          <a:blip r:embed="rId1"/>
          <a:stretch/>
        </p:blipFill>
        <p:spPr>
          <a:xfrm>
            <a:off x="450720" y="743040"/>
            <a:ext cx="7255080" cy="7254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488c5"/>
                </a:solidFill>
                <a:latin typeface="Trebuchet MS"/>
              </a:rPr>
              <a:t>The person that runs the executive branch is the presiden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488c5"/>
                </a:solidFill>
                <a:latin typeface="Trebuchet MS"/>
              </a:rPr>
              <a:t>The job of the executive branch is to make sure that laws are carried out like they should b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488c5"/>
                </a:solidFill>
                <a:latin typeface="Trebuchet MS"/>
              </a:rPr>
              <a:t>Usually the president keeps his job for four years then another president is voted but the president can run two times then he is retired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6" name="Picture 2" descr="C:\Documents and Settings\s128343\Local Settings\Temp\Temporary Internet Files\Content.IE5\ZUCTHZ1T\MC900440038[1].wmf"/>
          <p:cNvPicPr/>
          <p:nvPr/>
        </p:nvPicPr>
        <p:blipFill>
          <a:blip r:embed="rId2"/>
          <a:stretch/>
        </p:blipFill>
        <p:spPr>
          <a:xfrm>
            <a:off x="2895480" y="1981080"/>
            <a:ext cx="16002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itle 1" descr=""/>
          <p:cNvPicPr/>
          <p:nvPr/>
        </p:nvPicPr>
        <p:blipFill>
          <a:blip r:embed="rId1"/>
          <a:stretch/>
        </p:blipFill>
        <p:spPr>
          <a:xfrm>
            <a:off x="450720" y="811080"/>
            <a:ext cx="7255080" cy="65736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34b73"/>
                </a:solidFill>
                <a:latin typeface="Trebuchet MS"/>
              </a:rPr>
              <a:t>The judicial branch is called the supreme cour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34b73"/>
                </a:solidFill>
                <a:latin typeface="Trebuchet MS"/>
              </a:rPr>
              <a:t>The job of the judicial branch is to decide if the laws follow the constituti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34b73"/>
                </a:solidFill>
                <a:latin typeface="Trebuchet MS"/>
              </a:rPr>
              <a:t>The judicial branch usually until they retire or until they di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9" name="Picture 3" descr="C:\Documents and Settings\s128343\Local Settings\Temp\Temporary Internet Files\Content.IE5\F0YNA0EM\MP900401087[1].jpg"/>
          <p:cNvPicPr/>
          <p:nvPr/>
        </p:nvPicPr>
        <p:blipFill>
          <a:blip r:embed="rId2"/>
          <a:stretch/>
        </p:blipFill>
        <p:spPr>
          <a:xfrm>
            <a:off x="1676520" y="2057400"/>
            <a:ext cx="2819160" cy="13716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7" descr="C:\Documents and Settings\s128343\Local Settings\Temp\Temporary Internet Files\Content.IE5\PXCBB7V5\MP910220809[1].jpg"/>
          <p:cNvPicPr/>
          <p:nvPr/>
        </p:nvPicPr>
        <p:blipFill>
          <a:blip r:embed="rId3"/>
          <a:stretch/>
        </p:blipFill>
        <p:spPr>
          <a:xfrm>
            <a:off x="5181480" y="4800600"/>
            <a:ext cx="2459160" cy="20574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8" descr="C:\Documents and Settings\s128343\Local Settings\Temp\Temporary Internet Files\Content.IE5\F0YNA0EM\MC900150014[1].wmf"/>
          <p:cNvPicPr/>
          <p:nvPr/>
        </p:nvPicPr>
        <p:blipFill>
          <a:blip r:embed="rId4"/>
          <a:stretch/>
        </p:blipFill>
        <p:spPr>
          <a:xfrm>
            <a:off x="990720" y="5105520"/>
            <a:ext cx="2085840" cy="15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Title 1" descr=""/>
          <p:cNvPicPr/>
          <p:nvPr/>
        </p:nvPicPr>
        <p:blipFill>
          <a:blip r:embed="rId1"/>
          <a:stretch/>
        </p:blipFill>
        <p:spPr>
          <a:xfrm>
            <a:off x="450720" y="743040"/>
            <a:ext cx="7255080" cy="7254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457200" y="159984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488c5"/>
                </a:solidFill>
                <a:latin typeface="Trebuchet MS"/>
              </a:rPr>
              <a:t>The legislative branch is usually called the congres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488c5"/>
                </a:solidFill>
                <a:latin typeface="Trebuchet MS"/>
              </a:rPr>
              <a:t>The job is to make laws and pass them down to the president to be approved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488c5"/>
                </a:solidFill>
                <a:latin typeface="Trebuchet MS"/>
              </a:rPr>
              <a:t>                               </a:t>
            </a:r>
            <a:r>
              <a:rPr b="0" lang="en-US" sz="2600" spc="-1" strike="noStrike">
                <a:solidFill>
                  <a:srgbClr val="d488c5"/>
                </a:solidFill>
                <a:latin typeface="Trebuchet MS"/>
              </a:rPr>
              <a:t>EXTRA CREDI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488c5"/>
                </a:solidFill>
                <a:latin typeface="Trebuchet MS"/>
              </a:rPr>
              <a:t>                                    </a:t>
            </a:r>
            <a:r>
              <a:rPr b="0" lang="en-US" sz="2600" spc="-1" strike="noStrike">
                <a:solidFill>
                  <a:srgbClr val="d488c5"/>
                </a:solidFill>
                <a:latin typeface="Trebuchet MS"/>
              </a:rPr>
              <a:t>IS NEX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4" name="Picture 2" descr="C:\Documents and Settings\s128343\Local Settings\Temp\Temporary Internet Files\Content.IE5\9N7UUISS\MP900442808[1].jpg"/>
          <p:cNvPicPr/>
          <p:nvPr/>
        </p:nvPicPr>
        <p:blipFill>
          <a:blip r:embed="rId2"/>
          <a:stretch/>
        </p:blipFill>
        <p:spPr>
          <a:xfrm>
            <a:off x="2209680" y="1981080"/>
            <a:ext cx="2590920" cy="19814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6" descr="C:\Documents and Settings\s128343\Local Settings\Temp\Temporary Internet Files\Content.IE5\X7AK3MZU\MC900338676[1].wmf"/>
          <p:cNvPicPr/>
          <p:nvPr/>
        </p:nvPicPr>
        <p:blipFill>
          <a:blip r:embed="rId3"/>
          <a:stretch/>
        </p:blipFill>
        <p:spPr>
          <a:xfrm>
            <a:off x="5792760" y="5181480"/>
            <a:ext cx="1736640" cy="14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Title 1" descr=""/>
          <p:cNvPicPr/>
          <p:nvPr/>
        </p:nvPicPr>
        <p:blipFill>
          <a:blip r:embed="rId1"/>
          <a:stretch/>
        </p:blipFill>
        <p:spPr>
          <a:xfrm>
            <a:off x="450720" y="743040"/>
            <a:ext cx="7255080" cy="725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488c5"/>
                </a:solidFill>
                <a:latin typeface="Trebuchet MS"/>
              </a:rPr>
              <a:t>The person who runs the executive branch is brack obam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d488c5"/>
                </a:solidFill>
                <a:latin typeface="Trebuchet MS"/>
              </a:rPr>
              <a:t>Brack Obama</a:t>
            </a:r>
            <a:endParaRPr b="0" lang="en-US" sz="8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8" name="Picture 2" descr="C:\Documents and Settings\s128343\Local Settings\Temp\Temporary Internet Files\Content.IE5\6QQHF0E4\MC900440038[1].wmf"/>
          <p:cNvPicPr/>
          <p:nvPr/>
        </p:nvPicPr>
        <p:blipFill>
          <a:blip r:embed="rId2"/>
          <a:stretch/>
        </p:blipFill>
        <p:spPr>
          <a:xfrm>
            <a:off x="2895480" y="1981080"/>
            <a:ext cx="814680" cy="12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C:\Documents and Settings\s128343\Local Settings\Temp\Temporary Internet Files\Content.IE5\6QQHF0E4\MC900433824[1].png"/>
          <p:cNvPicPr/>
          <p:nvPr/>
        </p:nvPicPr>
        <p:blipFill>
          <a:blip r:embed="rId1"/>
          <a:stretch/>
        </p:blipFill>
        <p:spPr>
          <a:xfrm>
            <a:off x="6400800" y="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3" descr="C:\Documents and Settings\s128343\Local Settings\Temp\Temporary Internet Files\Content.IE5\X7AK3MZU\MC900433818[1].png"/>
          <p:cNvPicPr/>
          <p:nvPr/>
        </p:nvPicPr>
        <p:blipFill>
          <a:blip r:embed="rId2"/>
          <a:stretch/>
        </p:blipFill>
        <p:spPr>
          <a:xfrm>
            <a:off x="4952880" y="28195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C:\Documents and Settings\s128343\Local Settings\Temp\Temporary Internet Files\Content.IE5\6QQHF0E4\MC900433823[1].png"/>
          <p:cNvPicPr/>
          <p:nvPr/>
        </p:nvPicPr>
        <p:blipFill>
          <a:blip r:embed="rId3"/>
          <a:stretch/>
        </p:blipFill>
        <p:spPr>
          <a:xfrm>
            <a:off x="6629400" y="51814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5" descr="C:\Documents and Settings\s128343\Local Settings\Temp\Temporary Internet Files\Content.IE5\4HGPD06K\MC900433821[1].png"/>
          <p:cNvPicPr/>
          <p:nvPr/>
        </p:nvPicPr>
        <p:blipFill>
          <a:blip r:embed="rId4"/>
          <a:stretch/>
        </p:blipFill>
        <p:spPr>
          <a:xfrm>
            <a:off x="3276720" y="5335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6" descr="C:\Documents and Settings\s128343\Local Settings\Temp\Temporary Internet Files\Content.IE5\7ID4F28K\MC900434743[1].png"/>
          <p:cNvPicPr/>
          <p:nvPr/>
        </p:nvPicPr>
        <p:blipFill>
          <a:blip r:embed="rId5"/>
          <a:stretch/>
        </p:blipFill>
        <p:spPr>
          <a:xfrm>
            <a:off x="3352680" y="45720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3T19:13:36Z</dcterms:created>
  <dc:creator>TechSpec</dc:creator>
  <dc:description/>
  <dc:language>en-US</dc:language>
  <cp:lastModifiedBy>TechSpec</cp:lastModifiedBy>
  <dcterms:modified xsi:type="dcterms:W3CDTF">2012-03-26T19:05:27Z</dcterms:modified>
  <cp:revision>6</cp:revision>
  <dc:subject/>
  <dc:title>The branches of government</dc:title>
</cp:coreProperties>
</file>